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9620-BC0B-4429-A98B-8853FE91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7D7F-62E8-42D9-8F48-22EBE6FA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F529-93CD-4DEB-8324-3C10E1992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427C-1455-47E6-AB79-725E292C4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2EB4-E488-403B-8D19-C26B2DD9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32B4-C8F2-4B5B-81B9-276D71A0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7D3B-2FD3-423A-98C5-0035A44D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EBDB-D1AB-4D10-95AD-560F5942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94EB-C532-49E3-BE51-DF02DAD4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A8FB-0C75-4AF6-BE38-0CCD9131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4ADF-572B-4D3B-B7A2-5C32F201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F90F-72E2-42A1-979D-0C446DB3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2959-62F9-4B16-92D7-E8FCD4AA97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roup 7" descr=""/>
          <p:cNvPicPr/>
          <p:nvPr/>
        </p:nvPicPr>
        <p:blipFill>
          <a:blip r:embed="rId1"/>
          <a:stretch/>
        </p:blipFill>
        <p:spPr>
          <a:xfrm>
            <a:off x="-115920" y="-55440"/>
            <a:ext cx="1305000" cy="14634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828720" y="449280"/>
            <a:ext cx="62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полнительные меры социальной поддержки семей,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еющих детей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Рисунок 11" descr=""/>
          <p:cNvPicPr/>
          <p:nvPr/>
        </p:nvPicPr>
        <p:blipFill>
          <a:blip r:embed="rId2"/>
          <a:stretch/>
        </p:blipFill>
        <p:spPr>
          <a:xfrm>
            <a:off x="6581880" y="111240"/>
            <a:ext cx="1787400" cy="1185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14"/>
          <p:cNvSpPr/>
          <p:nvPr/>
        </p:nvSpPr>
        <p:spPr>
          <a:xfrm>
            <a:off x="1422360" y="6381720"/>
            <a:ext cx="68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Телефон «горячей линии» Отделения ПФР по Приморскому краю: 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(423)249-86-0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247680" y="1203480"/>
            <a:ext cx="8645400" cy="5249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6T07:23:45Z</dcterms:created>
  <dc:creator>000210</dc:creator>
  <dc:description/>
  <dc:language>en-US</dc:language>
  <cp:lastModifiedBy>Вовченко Александра Александровна</cp:lastModifiedBy>
  <cp:lastPrinted>2020-05-13T22:14:31Z</cp:lastPrinted>
  <dcterms:modified xsi:type="dcterms:W3CDTF">2020-05-13T23:49:08Z</dcterms:modified>
  <cp:revision>2313</cp:revision>
  <dc:subject/>
  <dc:title>Слайд 1</dc:title>
</cp:coreProperties>
</file>